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57D-AF5E-40C6-AD19-09DB81B6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DD28-C864-4203-A448-72341131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DB0-5141-4E47-87AB-0D045D90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2402-4E5B-4202-831A-036BE484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3C52-7501-42D1-83AE-D357DEA8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80C7-89A7-4D0C-A28E-9502FE29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5A8A-638B-4DD4-B64C-9BC8BDEB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5CB3-65E7-47FF-9C0A-8AF88AF2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C268-FD25-4319-9115-91E3B724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EDF1-A6EB-4168-BF11-D46FE857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A62B-902B-4ED5-8EF5-32C47540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D84-4045-4D98-8BDA-E7319BCC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2FEE-11AD-4340-A8E1-6AB910BF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84B8-43AB-4340-B07A-7B22AA9E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9A05-8B50-4DBC-9C36-BA6AE296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E417-5296-44AC-8AC0-F5569418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45E9-4CF9-4297-8E98-63A169FE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057-BA59-4BA2-9F1E-19BEC89C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1BE4-94AF-4FBE-9262-32565600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A282-BA75-4338-AFB8-D6BF7B00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B9DA-026B-4A93-A8A0-DCC2D2A6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AFFB-3DAA-41E0-A27E-42427367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B7A-86D3-44AB-9C4E-D6A8BF4D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70B8-F0E4-454B-AAA9-2A82ABCA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E7C0-C337-479D-A7AA-4304ED237770}" type="slidenum">
              <a:rPr b="0" lang="bg-BG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78F6-F009-48F0-A1BB-940AD289FCE6}" type="slidenum">
              <a:rPr b="0" lang="bg-BG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2f1311"/>
                </a:solidFill>
                <a:latin typeface="Monotype Corsiva"/>
              </a:rPr>
              <a:t>Welcome To Bulgari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Седемте рилски </a:t>
            </a:r>
            <a:br>
              <a:rPr sz="3600"/>
            </a:b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езер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Седемте рилски езера е груп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езера с ледников произход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разположена в планина Рила. Името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на всяко от Седемте рилски езер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има връзка със специфични външни особености на даденот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езеро. Езерото, което е разположено на най-голяма надморс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височина, носи името Сълзата заради прозрачността на водите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които предлагат видимост в дълбочина. Следващо по височина 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разположение е Окото, което е с почти идеална овална форм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Окото е най-дълбокото циркусно езеро в България - дълбоко 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37,5 м. Бъбрека е езерото с най-стръмните брегове от цялат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група. Четвъртото езеро е Близнака. Това е най-голямото по площ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езеро от Седемте рилски езера. Езерото Трилистника е с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неправилна форма и невисоки брегове. Най-плиткото езеро 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Рибното езеро. Най-ниското от езерата е Долното езеро. В него с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събира водата,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която изтича от останалите. Долното езеро дав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началото на река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Джерман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7068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Чудните мостове </a:t>
            </a:r>
            <a:br>
              <a:rPr sz="3600"/>
            </a:b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в Родопите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Чудните мостове са изключителен 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природен скален феномен. 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Разположен е в долината на река 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Еркюприя в Западните Родопи, в подножието на връх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Голям Персенк. Мостовете са се образували вследствие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ерозионната дейност на пълноводната в миналото река,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която е преобразувала пукнатините в мрамора в дълбока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водна пещера. Предполага се, че тя се е срутила и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отломките са били отнесени от водите на реката. В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резултат на това са останали двата известни мраморни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моста. Големият е широк около 15 м. и е дълъг почти 100 м.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Състои се от три арки, като най-голямата е с височина 45 и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ширина 40 м. Малкият мост е на 200 м от големия по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течението на реката - непроходим, дълъг 60 м., с обща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височина 50 м. След него има и съвсем малък трети мост,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който представлява пещера, в която водите на Еркюприя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изчезват, за да се появят пак на повърхността чак след 3км.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799400" y="9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2" descr=""/>
          <p:cNvPicPr/>
          <p:nvPr/>
        </p:nvPicPr>
        <p:blipFill>
          <a:blip r:embed="rId1"/>
          <a:stretch/>
        </p:blipFill>
        <p:spPr>
          <a:xfrm>
            <a:off x="4648320" y="380880"/>
            <a:ext cx="285732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Минералните </a:t>
            </a:r>
            <a:br>
              <a:rPr sz="3600"/>
            </a:b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извори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В България се срещат всички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известни на нашата планета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минерални води. Лечебните качества на българскит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минерални извори са били познати още в дълбо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древност. Край минералните извори у нас са съграждан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балнеолечебници още преди векове: Хисар – древ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Аугуста, Кюстендил - Пауталия, Бургаски минерални бани –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Акве калите, Сапарева баня - Германея, Сливенски бани –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Танзос и София - Улпия Сердика. Над 600-т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хидроминерални източници на територията на България с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с дебит 270 милиона литра в денонощие. По-голямата час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от тях са топли или горещи, извиращи от голям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дълбочина, което гарантира чистотата и лечебните и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свойств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21440" y="98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8" descr=""/>
          <p:cNvPicPr/>
          <p:nvPr/>
        </p:nvPicPr>
        <p:blipFill>
          <a:blip r:embed="rId1"/>
          <a:stretch/>
        </p:blipFill>
        <p:spPr>
          <a:xfrm>
            <a:off x="4495680" y="304920"/>
            <a:ext cx="28576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7d47d"/>
                </a:solidFill>
                <a:latin typeface="Arial"/>
              </a:rPr>
              <a:t>Еделвайс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Еделвайсът е многогодишно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тревисто растение от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семейство Сложноцветни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Той е защитено високопланинско растение, което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има около 30 разновидности. Среща се в Европа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и Югозападна Азия. В България расте само един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вид еделвайс и може да се види само в Пирин и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Стара планина. Изображението на растението е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емблема на Българският туристически съюз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(БТС). Стъблото на цветето е високо до 20 см.,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туфесто и покрито с власинки. Листата са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прикрепени към стъблото без дръжки и са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покрити с бели копринени власинки. Еделвайсът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2f1311"/>
                </a:solidFill>
                <a:latin typeface="Arial"/>
              </a:rPr>
              <a:t>у нас е защитен вид.</a:t>
            </a: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26360" y="9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6" descr=""/>
          <p:cNvPicPr/>
          <p:nvPr/>
        </p:nvPicPr>
        <p:blipFill>
          <a:blip r:embed="rId1"/>
          <a:stretch/>
        </p:blipFill>
        <p:spPr>
          <a:xfrm>
            <a:off x="4572000" y="457200"/>
            <a:ext cx="28576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7d47d"/>
                </a:solidFill>
                <a:latin typeface="Arial"/>
              </a:rPr>
              <a:t>Баниц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Ухаеща и пухкава, баницата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може да бъде сладка, 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солена, сочна, вита, наложена, мързелива.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Баницата има дългогодишна традиция на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софрата на българина. Смята се, че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майсторлъкът на домакинята се вижда най-добре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в баницата, която тя прави. В различните краища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на България баницата се прави по различен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начин, но най-често тя е вита, с плънка от яйца и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сирене. Общото между различните видове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баници са любовта и желанието, с които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домакинята ги приготвя.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85000" y="90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26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28573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7d47d"/>
                </a:solidFill>
                <a:latin typeface="Arial"/>
              </a:rPr>
              <a:t>Вино Мавруд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2f1311"/>
                </a:solidFill>
                <a:latin typeface="Arial"/>
              </a:rPr>
              <a:t>Характерно българско вино с тъмночервен рубинен цвят.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2f1311"/>
                </a:solidFill>
                <a:latin typeface="Arial"/>
              </a:rPr>
              <a:t>Притежава широк букет от аромати, сред които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2f1311"/>
                </a:solidFill>
                <a:latin typeface="Arial"/>
              </a:rPr>
              <a:t>преобладава ароматът на ягоди и череши, съчетан с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2f1311"/>
                </a:solidFill>
                <a:latin typeface="Arial"/>
              </a:rPr>
              <a:t>ванилов тон и сухи листа, с развитие към горски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2f1311"/>
                </a:solidFill>
                <a:latin typeface="Arial"/>
              </a:rPr>
              <a:t>плодове.</a:t>
            </a:r>
            <a:r>
              <a:rPr b="0" lang="en-US" sz="21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2f1311"/>
                </a:solidFill>
                <a:latin typeface="Arial"/>
              </a:rPr>
              <a:t>Вкусът е с изискан екстракт на диви плодове,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2f1311"/>
                </a:solidFill>
                <a:latin typeface="Arial"/>
              </a:rPr>
              <a:t>комплексна</a:t>
            </a:r>
            <a:r>
              <a:rPr b="0" lang="en-US" sz="21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2f1311"/>
                </a:solidFill>
                <a:latin typeface="Arial"/>
              </a:rPr>
              <a:t>плътност и свежа тръпчивост.</a:t>
            </a:r>
            <a:endParaRPr b="0" lang="en-US" sz="21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7216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5" name="27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28576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7d47d"/>
                </a:solidFill>
                <a:latin typeface="Arial"/>
              </a:rPr>
              <a:t>Кисело мляко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Киселото мляко е млечен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продукт, който се получава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чрез ферментация. Основният микроорганизъм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който участва в процеса на ферментацията, с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нарича Lactobacillus bulgaricus и се среща 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свободно състояние единствено на територията 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България. Само тук киселото мляко може да се закваси с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малко от предишното. В други страни периодично внася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закваска. Лактобацилус булгарикус е първият доказан о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науката микроорганизъм с пробиотични, профилактични 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лечебни свойства и затова една кофичка кисело мляко 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ден осигурява здраве и дълголети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65840" y="81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9" name="23" descr=""/>
          <p:cNvPicPr/>
          <p:nvPr/>
        </p:nvPicPr>
        <p:blipFill>
          <a:blip r:embed="rId1"/>
          <a:stretch/>
        </p:blipFill>
        <p:spPr>
          <a:xfrm>
            <a:off x="4572000" y="457200"/>
            <a:ext cx="28576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7d47d"/>
                </a:solidFill>
                <a:latin typeface="Arial"/>
              </a:rPr>
              <a:t>Шопска салат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Шопската салата е българско 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национално ястие от 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категорията на предястията.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Представлява салата от нарязани домати,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краставици, сурови или за предпочитане печени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чушки, кромид лук, пресен магданоз и настъргано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или натрошено бяло саламурено сирене.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Подправя се с дресинг от растителна мазнина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(олио или зехтин) и евентуално - с винен или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ябълков оцет. Понякога се слага и малко чесън,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особено ако чушките са печени. Шопите я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приготвят от местен сорт чушки, които имат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приятно лютив вкус.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10360" y="10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3" name="24" descr=""/>
          <p:cNvPicPr/>
          <p:nvPr/>
        </p:nvPicPr>
        <p:blipFill>
          <a:blip r:embed="rId1"/>
          <a:stretch/>
        </p:blipFill>
        <p:spPr>
          <a:xfrm>
            <a:off x="4724280" y="457200"/>
            <a:ext cx="28576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Питка с </a:t>
            </a:r>
            <a:br>
              <a:rPr sz="3600"/>
            </a:b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шарена сол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По стар български обичай 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всеки скъп и очакван гост в 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дома на стопаните се посреща с топла питка или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погача, поднесена с шарена сол. Това е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специален израз на гостоприемство, който трябва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да подскаже на госта, че дори нищо друго да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няма за ядене в къщата на стопаните, те пак ще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го посрещнат и нахранят със своето сърдечно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гостоприемство и „каквото Господ дал”. Друга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асоциация е фактът, че хлябът и солта са в</a:t>
            </a:r>
            <a:endParaRPr b="0" lang="en-US" sz="23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2f1311"/>
                </a:solidFill>
                <a:latin typeface="Arial"/>
              </a:rPr>
              <a:t>основата на живота.</a:t>
            </a:r>
            <a:r>
              <a:rPr b="0" lang="bg-BG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81840" y="10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7" name="32" descr=""/>
          <p:cNvPicPr/>
          <p:nvPr/>
        </p:nvPicPr>
        <p:blipFill>
          <a:blip r:embed="rId1"/>
          <a:stretch/>
        </p:blipFill>
        <p:spPr>
          <a:xfrm>
            <a:off x="4572000" y="457200"/>
            <a:ext cx="28576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80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rot="7468200">
            <a:off x="4952880" y="4190760"/>
            <a:ext cx="2438640" cy="304560"/>
          </a:xfrm>
          <a:prstGeom prst="rightArrow">
            <a:avLst>
              <a:gd name="adj1" fmla="val 50000"/>
              <a:gd name="adj2" fmla="val 20017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3520" y="304920"/>
            <a:ext cx="7386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                         </a:t>
            </a:r>
            <a:r>
              <a:rPr b="1" lang="bg-BG" sz="2800" spc="-1" strike="noStrike">
                <a:solidFill>
                  <a:srgbClr val="2f1311"/>
                </a:solidFill>
                <a:latin typeface="Arial"/>
              </a:rPr>
              <a:t>Republic of Bulgar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f1311"/>
                </a:solidFill>
                <a:latin typeface="Arial"/>
              </a:rPr>
              <a:t>Capital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</a:t>
            </a:r>
            <a:r>
              <a:rPr b="0" lang="bg-BG" sz="2800" spc="-1" strike="noStrike">
                <a:solidFill>
                  <a:srgbClr val="2f1311"/>
                </a:solidFill>
                <a:latin typeface="Arial"/>
              </a:rPr>
              <a:t>and largest city)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bg-BG" sz="2800" spc="-1" strike="noStrike">
                <a:solidFill>
                  <a:srgbClr val="2f1311"/>
                </a:solidFill>
                <a:latin typeface="Arial"/>
              </a:rPr>
              <a:t>Sof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f1311"/>
                </a:solidFill>
                <a:latin typeface="Arial"/>
              </a:rPr>
              <a:t>Area</a:t>
            </a:r>
            <a:r>
              <a:rPr b="0" lang="bg-BG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2f1311"/>
                </a:solidFill>
                <a:latin typeface="Arial"/>
              </a:rPr>
              <a:t>110,910 km²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f1311"/>
                </a:solidFill>
                <a:latin typeface="Arial"/>
              </a:rPr>
              <a:t>Population</a:t>
            </a:r>
            <a:r>
              <a:rPr b="0" lang="bg-BG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2800" spc="-1" strike="noStrike">
                <a:solidFill>
                  <a:srgbClr val="2f1311"/>
                </a:solidFill>
                <a:latin typeface="Arial"/>
              </a:rPr>
              <a:t>7,640,238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President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Georgi Purvanov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f1311"/>
                </a:solidFill>
                <a:latin typeface="Arial"/>
              </a:rPr>
              <a:t>Official language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bg-BG" sz="2800" spc="-1" strike="noStrike">
                <a:solidFill>
                  <a:srgbClr val="2f1311"/>
                </a:solidFill>
                <a:latin typeface="Arial"/>
              </a:rPr>
              <a:t>Bulgaria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f1311"/>
                </a:solidFill>
                <a:latin typeface="Arial"/>
              </a:rPr>
              <a:t>Currency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bg-BG" sz="2800" spc="-1" strike="noStrike">
                <a:solidFill>
                  <a:srgbClr val="2f1311"/>
                </a:solidFill>
                <a:latin typeface="Arial"/>
              </a:rPr>
              <a:t>Lev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609480" y="208080"/>
            <a:ext cx="259092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12" descr=""/>
          <p:cNvPicPr/>
          <p:nvPr/>
        </p:nvPicPr>
        <p:blipFill>
          <a:blip r:embed="rId1"/>
          <a:stretch/>
        </p:blipFill>
        <p:spPr>
          <a:xfrm>
            <a:off x="4800600" y="457200"/>
            <a:ext cx="2857680" cy="21049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7d47d"/>
                </a:solidFill>
                <a:latin typeface="Arial"/>
              </a:rPr>
              <a:t>Кирилицат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През 865 г. солунските братя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Кирил и Методий създава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българската азбука.Те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стандартизират богослужебния език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като се основават на солунското българско наречи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Предполага се, че за записването му са използвали другат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славянска азбука - глаголицата, но с добавенит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характерни букви, отговарящи на фонетичните особеност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на езика ни, тя става наистина уникална. Най-голям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заслуга за разпространението на Кирилицата има ученикъ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на Кирил и Методий - Климент Охридск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20" descr=""/>
          <p:cNvPicPr/>
          <p:nvPr/>
        </p:nvPicPr>
        <p:blipFill>
          <a:blip r:embed="rId1"/>
          <a:stretch/>
        </p:blipFill>
        <p:spPr>
          <a:xfrm>
            <a:off x="4876920" y="304920"/>
            <a:ext cx="2857320" cy="2104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Българският </a:t>
            </a:r>
            <a:br>
              <a:rPr sz="3600"/>
            </a:b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фолклор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Българско народно творчество е общото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наименование за произведенията н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изкуството и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постиженията на културата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предаващи се традиционно от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поколени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на поколение българи толкова дълго време, ч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се е забравило името на техния автор. Българскит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народни песни са най-значителният, разнообразен 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художествен дял в българския фолклор. Народните песни с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създавани в стихотворна форма, при които текст и мелодия с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неразривно свързани. Българското народно поетическ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творчество води началото си от далечни времена. Първит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сведения за народни песни и певци са от 9-10 век. Най-мног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народни песни са запазени от 18-ти век. творци са хора с поетичен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и музикален талант - певци, гулсари, гайдари, кавалджи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Народната песен се е създавала и развивала, предавала се е о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f1311"/>
                </a:solidFill>
                <a:latin typeface="Arial"/>
              </a:rPr>
              <a:t>певец на певец и е стигнала до наши дн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6428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7d47d"/>
                </a:solidFill>
                <a:latin typeface="Arial"/>
              </a:rPr>
              <a:t>Балкан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Балканът се свързва с България по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органичен начин, а народният гений го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е възпял в песните си. Стара плани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или Балканът е планинска верига в Европа, намираща се 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Балканския полуостров, на която е кръстен самият полуостров. Тя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се простира от Източна Сърбия до Черно море, като по-голямата 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част се намира на територията на България. Стара плани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пресича България по цялата дължина и разделя страната 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Северна и Южна България. Западна Стара планина се простир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от Белоградчишкия проход до Арабаконашкия проход с дължи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190 км. Средна Стара планина се намира между Арабаконашк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проход и прохода Вратник, дълъг е 207 км. В този дял се намир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най-високият връх в планината — връх Ботев (2376 м). Източ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Стара планина е с най-малка надморска височина. Простира се между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прохода Вратник и нос Емине на Черно море и има дължина 155км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Балканът „потъва” в морето при най-красивия плаж по нашето крайбрежи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f1311"/>
                </a:solidFill>
                <a:latin typeface="Arial"/>
              </a:rPr>
              <a:t>Иракл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26280" y="96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4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28573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Исторически хълм</a:t>
            </a:r>
            <a:br>
              <a:rPr sz="3600"/>
            </a:br>
            <a:r>
              <a:rPr b="0" lang="bg-BG" sz="3600" spc="-1" strike="noStrike">
                <a:solidFill>
                  <a:srgbClr val="f7d47d"/>
                </a:solidFill>
                <a:latin typeface="Arial"/>
              </a:rPr>
              <a:t>Царевец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Царевец се нарича известният хълм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във Велико Търново, който е бил 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главната крепост и столица на Втората българска държава.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Велико Търново е един от най-старинните градове в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България. Той има повече от петхилядолетна история, като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първите свидетелства за живот там са от третото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хилядолетие преди Христа. Хълмът Царевец е заобиколен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от три страни от река Янтра. По време на Втората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българска държава е обитаван от царския двор, болярите и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патриарха. Опасан е от крепостна стена, построена върху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естествени отвесни скали. На най-високата част на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Царевец се е намирала патриаршеската църква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„</a:t>
            </a: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Възнесение Христово“. Археологическите разкопки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показват, че Царевец не е бил само затворена крепост, а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истински средновековен град, гъсто застроен с жилищни и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2f1311"/>
                </a:solidFill>
                <a:latin typeface="Arial"/>
              </a:rPr>
              <a:t>ритуални сгради.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83520" y="83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16" descr=""/>
          <p:cNvPicPr/>
          <p:nvPr/>
        </p:nvPicPr>
        <p:blipFill>
          <a:blip r:embed="rId1"/>
          <a:stretch/>
        </p:blipFill>
        <p:spPr>
          <a:xfrm>
            <a:off x="4876920" y="152280"/>
            <a:ext cx="270504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f7d47d"/>
                </a:solidFill>
                <a:latin typeface="Arial"/>
              </a:rPr>
              <a:t>Рилският манастир</a:t>
            </a:r>
            <a:r>
              <a:rPr b="0" lang="bg-BG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Рилският манастир се намира в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Югозападна България, в горното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течение на Рилска река. Основан е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през 10-ти век. Рилският манастир е един от културнит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паметници в България, включени в списъка за световнот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културно-историческо наследство на ЮНЕСКО. Манастиръ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"Св. Иван Рилски" е построен на мястото на стара постниц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през 927-941 г. от Иван Рилски (или от негови ученици). 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двора на днешния манастир през 1335 г. е издигнат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отбранителна кула и малка еднокорабна черква от местни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феодален владетел Хрельо. Кулата е най-старата запазе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сграда в манастирския комплекс и по стил принадлежи къ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архитектурата на Търновската художествена школ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9520" y="80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19" descr=""/>
          <p:cNvPicPr/>
          <p:nvPr/>
        </p:nvPicPr>
        <p:blipFill>
          <a:blip r:embed="rId1"/>
          <a:stretch/>
        </p:blipFill>
        <p:spPr>
          <a:xfrm>
            <a:off x="4800600" y="533520"/>
            <a:ext cx="28576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7d47d"/>
                </a:solidFill>
                <a:latin typeface="Arial"/>
              </a:rPr>
              <a:t>Мадарски конник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Мадарският конник е археологическ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паметник, представляващ изсечен 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скалите релеф на 23 м. височина о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основата на отвесна скала. Намира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се в североизточна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България, близо до село Мадара и 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20 км. от град Шумен.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Обявен е за паметник на световнот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историческо наследство от ЮНЕСКО през 1972 г. Релефът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представлява триумфиращ владетел - символ на мощта на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българската държава от ханския й период. В естествена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големина са изобразени конник в ход надясно, орел в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хералдична поза, летящ пред него, подскочило куче, което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го следва, и прободен с копие лъв, повален под предните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крака на коня. Детайлите определят датировката към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f1311"/>
                </a:solidFill>
                <a:latin typeface="Arial"/>
              </a:rPr>
              <a:t>началото на 8-и век и времето на хан Тервел (701-721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0236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17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285732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rkata</cp:lastModifiedBy>
  <dcterms:modified xsi:type="dcterms:W3CDTF">2008-08-09T16:00:35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